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7B419-A008-4652-BA8D-2FEAB4923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0FAAA-297E-472E-A2B0-62D24596E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DAA86-3E16-4B5B-AC4F-1DDBCA22D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E2624-EF86-4436-A884-BB25F9E79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98A8A-8A56-4AEF-9ED8-A8E8BFA5A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E9144-32CD-44FC-B4DB-F03E49C73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5BC11-998A-4193-A42C-FC50901A6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748DB-9852-4A47-9E0E-95768ED25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25C4E-E608-4FFE-9666-83A58F0EF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0651-442F-4AC8-9A45-5D0E40EB8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07659-B6F5-4DA1-AD8F-3A971AF15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87656-7A57-4F71-8E83-6F44A806A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399F-D204-4783-BCC1-EB58292F9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hornets.net/basketball/2005/ncaa/images/ncaas_sn_darrin_shine_jpg.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lum bright="70000" contrast="-70000"/>
          </a:blip>
          <a:stretch/>
        </p:blipFill>
        <p:spPr>
          <a:xfrm>
            <a:off x="762120" y="509760"/>
            <a:ext cx="7848360" cy="6348240"/>
          </a:xfrm>
          <a:prstGeom prst="rect">
            <a:avLst/>
          </a:prstGeom>
          <a:ln w="0">
            <a:noFill/>
          </a:ln>
        </p:spPr>
      </p:pic>
      <p:sp>
        <p:nvSpPr>
          <p:cNvPr id="42" name=""/>
          <p:cNvSpPr/>
          <p:nvPr/>
        </p:nvSpPr>
        <p:spPr>
          <a:xfrm>
            <a:off x="762120" y="228600"/>
            <a:ext cx="7467480" cy="602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ructures and Strategies – Fast Brea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 should already kno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t work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and responsibil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s and Weaknes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s for tod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dapt and chang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 for impr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which could be as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70000" contrast="-70000"/>
          </a:blip>
          <a:stretch/>
        </p:blipFill>
        <p:spPr>
          <a:xfrm>
            <a:off x="762120" y="509760"/>
            <a:ext cx="7848360" cy="6348240"/>
          </a:xfrm>
          <a:prstGeom prst="rect">
            <a:avLst/>
          </a:prstGeom>
          <a:ln w="0">
            <a:noFill/>
          </a:ln>
        </p:spPr>
      </p:pic>
      <p:sp>
        <p:nvSpPr>
          <p:cNvPr id="44" name=""/>
          <p:cNvSpPr/>
          <p:nvPr/>
        </p:nvSpPr>
        <p:spPr>
          <a:xfrm>
            <a:off x="914400" y="380880"/>
            <a:ext cx="7315200" cy="730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ructures and Strategies – Fast Brea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 for impr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weakness:</a:t>
            </a:r>
            <a:r>
              <a:rPr b="0" lang="en-US" sz="2400" spc="-1" strike="noStrike">
                <a:solidFill>
                  <a:srgbClr val="000000"/>
                </a:solidFill>
                <a:latin typeface="Arial"/>
              </a:rPr>
              <a:t>	</a:t>
            </a:r>
            <a:r>
              <a:rPr b="0" lang="en-US" sz="2400" spc="-1" strike="noStrike">
                <a:solidFill>
                  <a:srgbClr val="000000"/>
                </a:solidFill>
                <a:latin typeface="Arial"/>
              </a:rPr>
              <a:t>Shoot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ass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ree reasons these weaknesses would cause problems in your teams performance of their chosen strateg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mi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70000" contrast="-70000"/>
          </a:blip>
          <a:stretch/>
        </p:blipFill>
        <p:spPr>
          <a:xfrm>
            <a:off x="762120" y="509760"/>
            <a:ext cx="7848360" cy="6348240"/>
          </a:xfrm>
          <a:prstGeom prst="rect">
            <a:avLst/>
          </a:prstGeom>
          <a:ln w="0">
            <a:noFill/>
          </a:ln>
        </p:spPr>
      </p:pic>
      <p:sp>
        <p:nvSpPr>
          <p:cNvPr id="46" name=""/>
          <p:cNvSpPr/>
          <p:nvPr/>
        </p:nvSpPr>
        <p:spPr>
          <a:xfrm>
            <a:off x="990720" y="380880"/>
            <a:ext cx="723888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ructures and Strategies – Fast Brea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on did you take to improve this weaknes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practices which your team carried ou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on sheet provi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762120" y="509760"/>
            <a:ext cx="7848360" cy="6348240"/>
          </a:xfrm>
          <a:prstGeom prst="rect">
            <a:avLst/>
          </a:prstGeom>
          <a:ln w="0">
            <a:noFill/>
          </a:ln>
        </p:spPr>
      </p:pic>
      <p:sp>
        <p:nvSpPr>
          <p:cNvPr id="48" name=""/>
          <p:cNvSpPr/>
          <p:nvPr/>
        </p:nvSpPr>
        <p:spPr>
          <a:xfrm>
            <a:off x="990720" y="457200"/>
            <a:ext cx="7238880" cy="601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ructures and Strategies – Fast Bre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WORK: DUE Wednesday 11</a:t>
            </a:r>
            <a:r>
              <a:rPr b="1" lang="en-US" sz="1800" spc="-1" strike="noStrike" baseline="30000">
                <a:solidFill>
                  <a:srgbClr val="000000"/>
                </a:solidFill>
                <a:latin typeface="Arial"/>
              </a:rPr>
              <a:t>th</a:t>
            </a:r>
            <a:r>
              <a:rPr b="1" lang="en-US" sz="1800" spc="-1" strike="noStrike">
                <a:solidFill>
                  <a:srgbClr val="000000"/>
                </a:solidFill>
                <a:latin typeface="Arial"/>
              </a:rPr>
              <a:t> February ON PAP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n activity, Describe in detail, two structures or strategies, one of which you consider to be your first choice and one which you consider to be your alternative or second choic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why you favour you first choice structure or strateg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importance of communication and width, depth and mobility in your first choice structure or strateg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4T12:58:18Z</dcterms:created>
  <dc:creator>HamiltonP</dc:creator>
  <dc:description/>
  <dc:language>en-US</dc:language>
  <cp:lastModifiedBy>hamiltonp</cp:lastModifiedBy>
  <dcterms:modified xsi:type="dcterms:W3CDTF">2009-02-04T08:35:47Z</dcterms:modified>
  <cp:revision>4</cp:revision>
  <dc:subject/>
  <dc:title>PowerPoint Presentation</dc:title>
</cp:coreProperties>
</file>